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EB5-F3A2-49FD-AE08-279150B8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08C-123C-49F2-8266-A23F8859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0D91-BFA8-45FB-84C1-84F0D5C2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2282-6C85-4412-A7D4-B5D0BB57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2DDF-73CC-4A8D-9488-A88FADA7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C504-8620-43B2-8A75-195A04A8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1847-996B-448E-A40A-DC4F2DA6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6D7E-A1B8-4993-BC34-C2C71F58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CB19-C0CD-426C-AA5B-AD925C00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0BD7-EA6A-4119-89B6-5C66A2AF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BBF1-3A6D-4380-BAE9-DD735A8D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B76A-D49B-45EF-9C01-5799CE03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451E-60F6-48E7-BA97-E5DC575C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C763-766D-4D9B-B356-93B59958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5E6E-C37B-4BCD-BAF5-FA78749E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E3B2-F46F-4DF4-9087-9612A56F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20EF-5AEE-4DDA-A689-80FA20D6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8E75-1541-4275-B898-C1649F05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9C53-6875-48BC-A62E-2F67D725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7833-65EE-4741-B0B8-9E5AEA41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FCC-C9A1-4836-A29A-559D495B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12D0-DF15-4AB4-9C10-E3427384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98C7-D452-4BA0-AA98-5807B16C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BF76-B8FB-4ACA-A648-F22C86AB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049F-C70B-45E1-AD46-2409162F8C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7086-3EA5-424C-B81C-4CBE2691F5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80880" y="1218960"/>
            <a:ext cx="815328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Comid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Maddy Ze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791320" y="1143000"/>
            <a:ext cx="2043000" cy="2043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a el desayuno me gusta comer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491080"/>
            <a:ext cx="12952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le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1415880" cy="2133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90720" y="25146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huevos revuel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1905120" cy="1262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57600" y="2819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bagel con queso cr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867280" y="1295280"/>
            <a:ext cx="2486160" cy="165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5880" y="3352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enselada de fr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657600" y="1371600"/>
            <a:ext cx="1498680" cy="1498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rot="21461400">
            <a:off x="54864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yog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267080" y="396252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a el almuerzo me gusta com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05120" y="5790960"/>
            <a:ext cx="16761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agu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76520" y="3733920"/>
            <a:ext cx="1706400" cy="2133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9480" y="2971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ensal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2819160" cy="1843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505320" y="3048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sandwich de queso a la plan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200400" y="1295280"/>
            <a:ext cx="2448000" cy="1627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172200" y="3429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an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019920" y="1371600"/>
            <a:ext cx="1866960" cy="1917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876920" y="6019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opa de pollo con fid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648320" y="38671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a la cena me gusta comer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55627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lim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1747800" cy="1797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0880" y="29718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fi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1981080" cy="1555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743200" y="3048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apa al h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514600" y="1387440"/>
            <a:ext cx="2362320" cy="1720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562720" y="32004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judias ve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57913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ziti al h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257800" y="1371600"/>
            <a:ext cx="2343240" cy="1833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114800" y="36576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a el postre me gusta comer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5562720"/>
            <a:ext cx="22100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ba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9320" y="373392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3520" y="3124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galletas de avena y p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1549440" cy="1778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48120" y="342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helado de ca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743200" y="1219320"/>
            <a:ext cx="2457360" cy="2038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943600" y="3352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fresas cubiertas de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562720" y="1676520"/>
            <a:ext cx="2400120" cy="1596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48320" y="53341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astelitos de terciopelo rojo con queso crema fr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5105520" y="4114800"/>
            <a:ext cx="2057400" cy="1328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44:14Z</dcterms:created>
  <dc:creator>zeliffmad</dc:creator>
  <dc:description/>
  <dc:language>en-US</dc:language>
  <cp:lastModifiedBy>zeliffmad</cp:lastModifiedBy>
  <dcterms:modified xsi:type="dcterms:W3CDTF">2011-04-14T14:57:11Z</dcterms:modified>
  <cp:revision>4</cp:revision>
  <dc:subject/>
  <dc:title>Las Comidas </dc:title>
</cp:coreProperties>
</file>